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6B92-1285-44EB-8471-304057CA8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E57-DD45-499F-B868-7B48405B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ED17-6421-47DC-A052-55E2DD26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06AF-0C84-447F-948B-5EDF7C44D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0CF9-73E6-4A32-8A17-A5AAEE85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726F-D57B-4AFE-BC16-036AE91A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A33-A9A4-444E-9D2A-7CCB694C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AD7-C87E-4487-BBC6-FB7CF280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B349-97EE-4B2D-ADF5-389DAA4F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CA6D-EDA9-4EE3-8E77-8BB0897A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1A0-C3E3-4CFD-A22D-4CBAE2D2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B32B-5380-44FE-82A5-5EF23AB9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A480-07CC-4F87-B0A3-AAF7DE7FB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7621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646200"/>
            <a:ext cx="4647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roadway"/>
              </a:rPr>
              <a:t>FAMILY MOVIE 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roadway"/>
              </a:rPr>
              <a:t>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roadway"/>
              </a:rPr>
              <a:t>ASTON-BEECH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Broadway"/>
              </a:rPr>
              <a:t>FIRE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 rot="20954400">
            <a:off x="372600" y="766440"/>
            <a:ext cx="1349640" cy="1684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2743200"/>
            <a:ext cx="2971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: 793 MOUNT 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ON 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; FRIDAY 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: 7:3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MISS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 - $4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(12 AND UNDER) - $2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14800" y="2438280"/>
            <a:ext cx="182880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3520" y="6705720"/>
            <a:ext cx="1218960" cy="1828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505320" y="419112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reshments sold: Hotdogs, Soda, popcorn, and water ice. All fo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al pr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5562720"/>
            <a:ext cx="4572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 PRESEN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D - 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EHOUSE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NG LAWN CHAIRS, BLAN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HAVE A GREAT FAMI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GHT ENJOYING A MOVIE 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RESHMENTS TOGETH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12:02:11Z</dcterms:created>
  <dc:creator>NNMC</dc:creator>
  <dc:description/>
  <dc:language>en-US</dc:language>
  <cp:lastModifiedBy>James Graham</cp:lastModifiedBy>
  <dcterms:modified xsi:type="dcterms:W3CDTF">2008-07-03T02:43:12Z</dcterms:modified>
  <cp:revision>10</cp:revision>
  <dc:subject/>
  <dc:title>Slide 1</dc:title>
</cp:coreProperties>
</file>